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785-1B80-49E8-AF35-3B799B23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577-9D1A-4ABB-854E-6B0DB01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BA8-7890-4613-A9DE-F08B5D60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BF7-5B1C-457B-8459-2F8341E7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1AC-0673-4B82-BF43-967F50EA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4B1-AC71-4457-A57C-D2CC0B0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E8C-0F8D-4525-BCBC-23BB6505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16-D8E5-4311-A89A-ECC318B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323-5C09-45A0-B8FF-C8565E03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63E-A90F-4178-86B4-4703586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A9E-0DB2-4929-A1A1-08CCFDE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F03-256C-488F-98E3-7985F9C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2AA9-5AC5-4C48-AED8-68221A938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5181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it rolled into the mean dogs bed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714680" y="1400040"/>
            <a:ext cx="5715000" cy="4057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 was very worried. He didn’t want to wake up the old do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4572000" cy="377820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80773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sat and waited for Moses to wake up on his 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ited and wait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never mo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tually Tubs started to get impati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37414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74674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got up! Slowly he walked towards the Dogs bed. Being very qui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4857840" cy="4695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woke up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428920" y="1300320"/>
            <a:ext cx="4286160" cy="425736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barked at tubs saying, what are you do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586040" cy="30956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was very scared. He asked may I please have my ball bac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7696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c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730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6934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ld dog smiled and said “Sure,” and threw the ball 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96240" cy="405756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76201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 wasn’t very mean after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603600" cy="43243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Tu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23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was a young c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 rot="20866800">
            <a:off x="2285640" y="1447560"/>
            <a:ext cx="4540320" cy="47815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very playfu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lived with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 rot="21058200">
            <a:off x="5029200" y="2514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was Mo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es was a very mean and old do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981080" y="1133640"/>
            <a:ext cx="4962600" cy="57243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01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Tubs was playing with a little ball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286000" y="2043000"/>
            <a:ext cx="4371840" cy="410076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4:53Z</dcterms:created>
  <dc:creator>itsuser</dc:creator>
  <dc:description/>
  <dc:language>en-US</dc:language>
  <cp:lastModifiedBy>itsuser</cp:lastModifiedBy>
  <dcterms:modified xsi:type="dcterms:W3CDTF">2009-03-17T16:16:07Z</dcterms:modified>
  <cp:revision>6</cp:revision>
  <dc:subject/>
  <dc:title>Tubs</dc:title>
</cp:coreProperties>
</file>